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B5F66-6BE0-4A01-BC7D-A66C85DFD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B293C-48E9-4E4D-BF78-3DC3225B0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BDC9E-87F1-46A8-8383-207B4D32D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66483-2B6F-406D-9F17-BF578B1E3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4D540-95A0-4685-9093-3CC7F11A0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AF955-ED9D-4CF7-A1CA-0EEF82D54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46317-71A9-4F02-92D8-6AEA45C18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4E629-5F1C-4053-A374-50DFF73D0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37A8D-12C3-4A4F-A8C2-C821890AD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2E7D5-1167-43FE-AEAC-FAD22611A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14653-E82B-48F4-A11E-58F9464FF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05537-B6E1-4867-B49B-8C8CFBCA9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F4B06-B151-4B91-8942-52B35B0F3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C9C1B-1E7A-43AC-8B5A-18DD315C6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2A431-33AE-40A9-A47C-F2E5554A5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428A1-1F67-4BD5-BC2A-F76C199E2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BB06F-DA37-4963-8366-5937801EB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0D408-0315-4B2A-A3C4-094A53891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3735D-7349-41E5-86BB-C05AC4FA3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F7645-FFFD-49D1-BEDB-1CC9622CE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8EEC5-351D-4817-8A0E-07811DFA2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B1781-E77C-4DE8-8169-3512FF21E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C9C90-208F-464C-9C63-0E51B4701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85B3F-38E2-4173-A80E-40BB976AF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F8236-B267-479E-84B5-5D8CE1E927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4221D-E13C-4B6C-8B09-C6C7E8179B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440" y="762120"/>
            <a:ext cx="39625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ell Size Limitation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609120" y="3352320"/>
            <a:ext cx="358164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hy are cells so small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7" name="Picture 2" descr="http://acsbiology.info/images/early_microscope_cartoon.jpg"/>
          <p:cNvPicPr/>
          <p:nvPr/>
        </p:nvPicPr>
        <p:blipFill>
          <a:blip r:embed="rId1"/>
          <a:stretch/>
        </p:blipFill>
        <p:spPr>
          <a:xfrm>
            <a:off x="4648320" y="1052640"/>
            <a:ext cx="4038480" cy="53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800" spc="-1" strike="noStrike">
                <a:solidFill>
                  <a:srgbClr val="000000"/>
                </a:solidFill>
                <a:latin typeface="Verdana"/>
              </a:rPr>
              <a:t>The Surface Area is also important…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Surface area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 will determine the exchange of materials between the cell and its environmen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Bigger cells will metabolise m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But they will need more surface to support that metabolis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And the sites of metabolism in bigger cells will be further from the surface of the cel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800" spc="-1" strike="noStrike">
                <a:solidFill>
                  <a:srgbClr val="000000"/>
                </a:solidFill>
                <a:latin typeface="Verdana"/>
              </a:rPr>
              <a:t>This is a problem then…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66280" y="18288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Bigger cells have a greater metabolism than smaller cell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BUT bigger cells have a </a:t>
            </a: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proportionally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000" spc="-1" strike="noStrike" u="sng">
                <a:solidFill>
                  <a:srgbClr val="000000"/>
                </a:solidFill>
                <a:uFillTx/>
                <a:latin typeface="Arial"/>
              </a:rPr>
              <a:t>less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 surface for exchang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How to increase surface area with increasing size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crease the surface area of the cell through different sha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Content Placeholder 4" descr=""/>
          <p:cNvPicPr/>
          <p:nvPr/>
        </p:nvPicPr>
        <p:blipFill>
          <a:blip r:embed="rId1"/>
          <a:stretch/>
        </p:blipFill>
        <p:spPr>
          <a:xfrm>
            <a:off x="2209680" y="228600"/>
            <a:ext cx="502308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4560" y="3049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800" spc="-1" strike="noStrike">
                <a:solidFill>
                  <a:srgbClr val="000000"/>
                </a:solidFill>
                <a:latin typeface="Verdana"/>
              </a:rPr>
              <a:t>Villi in the Small Intestin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2" name="Picture 3" descr="D:\Users\09106826\Desktop\GP2134.jpg"/>
          <p:cNvPicPr/>
          <p:nvPr/>
        </p:nvPicPr>
        <p:blipFill>
          <a:blip r:embed="rId1"/>
          <a:stretch/>
        </p:blipFill>
        <p:spPr>
          <a:xfrm>
            <a:off x="380880" y="1828800"/>
            <a:ext cx="2459160" cy="24591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4" descr="D:\Users\09106826\Desktop\image004.jpg"/>
          <p:cNvPicPr/>
          <p:nvPr/>
        </p:nvPicPr>
        <p:blipFill>
          <a:blip r:embed="rId2"/>
          <a:stretch/>
        </p:blipFill>
        <p:spPr>
          <a:xfrm>
            <a:off x="5867280" y="1768320"/>
            <a:ext cx="3048120" cy="24926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5" descr="D:\Users\09106826\Desktop\P5200043-LM_of_villi_in_small_intestine-SPL.jpg"/>
          <p:cNvPicPr/>
          <p:nvPr/>
        </p:nvPicPr>
        <p:blipFill>
          <a:blip r:embed="rId3"/>
          <a:stretch/>
        </p:blipFill>
        <p:spPr>
          <a:xfrm>
            <a:off x="3200400" y="3016080"/>
            <a:ext cx="2484360" cy="307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800" spc="-1" strike="noStrike">
                <a:solidFill>
                  <a:srgbClr val="000000"/>
                </a:solidFill>
                <a:latin typeface="Verdana"/>
              </a:rPr>
              <a:t>Tissues and Diffus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66640" y="1752480"/>
            <a:ext cx="35481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Tissues are a collection of cells that function togeth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Tissues need a way for diffusion to occur to all cel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7" name="Picture 2" descr="D:\Users\09106826\Desktop\liverlobule.jpg"/>
          <p:cNvPicPr/>
          <p:nvPr/>
        </p:nvPicPr>
        <p:blipFill>
          <a:blip r:embed="rId1"/>
          <a:stretch/>
        </p:blipFill>
        <p:spPr>
          <a:xfrm>
            <a:off x="4419720" y="1981080"/>
            <a:ext cx="4510080" cy="36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641480" y="1752480"/>
            <a:ext cx="39258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st cells are between 2µm and 200µm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 micrometer is 1 millionth of a meter!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oo small to be seen with naked ey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9" name="Picture 8" descr="stained blood smear"/>
          <p:cNvPicPr/>
          <p:nvPr/>
        </p:nvPicPr>
        <p:blipFill>
          <a:blip r:embed="rId1"/>
          <a:stretch/>
        </p:blipFill>
        <p:spPr>
          <a:xfrm>
            <a:off x="380880" y="685800"/>
            <a:ext cx="4092840" cy="26859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1" descr="onion_epidermal_cells"/>
          <p:cNvPicPr/>
          <p:nvPr/>
        </p:nvPicPr>
        <p:blipFill>
          <a:blip r:embed="rId2"/>
          <a:stretch/>
        </p:blipFill>
        <p:spPr>
          <a:xfrm>
            <a:off x="457200" y="3824280"/>
            <a:ext cx="3476520" cy="260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Why can’t organisms be one big giant cell?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Picture 1" descr=""/>
          <p:cNvPicPr/>
          <p:nvPr/>
        </p:nvPicPr>
        <p:blipFill>
          <a:blip r:embed="rId1"/>
          <a:stretch/>
        </p:blipFill>
        <p:spPr>
          <a:xfrm>
            <a:off x="3043080" y="2514600"/>
            <a:ext cx="4762800" cy="38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imits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4920" y="1752480"/>
            <a:ext cx="861048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60080" indent="-4600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Verdana"/>
              </a:rPr>
              <a:t>Diffusion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limits cell siz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889560" indent="-427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vement from higher concentration to lower concentr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895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889560" indent="-427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arger the distance, slower the diffusion ra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895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889560" indent="-427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 cell 20 cm would require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Verdana"/>
              </a:rPr>
              <a:t>months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for nutrients to get to the center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895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889560" indent="-427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maller cell size allows the cell to be more efficie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9" descr="bone marrow"/>
          <p:cNvPicPr/>
          <p:nvPr/>
        </p:nvPicPr>
        <p:blipFill>
          <a:blip r:embed="rId1"/>
          <a:stretch/>
        </p:blipFill>
        <p:spPr>
          <a:xfrm>
            <a:off x="228600" y="2438280"/>
            <a:ext cx="3925800" cy="291492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267080" y="1752480"/>
            <a:ext cx="43005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DNA limits cell siz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arger cells need more DNA. Needs more of everything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f the cell was very large, there would not be enough DNA to support the cell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ost cells have just one nucleu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800" spc="-1" strike="noStrike">
                <a:solidFill>
                  <a:srgbClr val="000000"/>
                </a:solidFill>
                <a:latin typeface="Verdana"/>
              </a:rPr>
              <a:t>Surface Area to Volume Ratio Limits Size of Cell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8" name="Picture 7" descr="Surface area to volume ratio"/>
          <p:cNvPicPr/>
          <p:nvPr/>
        </p:nvPicPr>
        <p:blipFill>
          <a:blip r:embed="rId1"/>
          <a:stretch/>
        </p:blipFill>
        <p:spPr>
          <a:xfrm>
            <a:off x="1195560" y="1752480"/>
            <a:ext cx="6743520" cy="4267440"/>
          </a:xfrm>
          <a:prstGeom prst="rect">
            <a:avLst/>
          </a:prstGeom>
          <a:ln w="0">
            <a:noFill/>
          </a:ln>
        </p:spPr>
      </p:pic>
      <p:sp>
        <p:nvSpPr>
          <p:cNvPr id="99" name="Text Box 10"/>
          <p:cNvSpPr/>
          <p:nvPr/>
        </p:nvSpPr>
        <p:spPr>
          <a:xfrm>
            <a:off x="838080" y="0"/>
            <a:ext cx="784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228600" y="190512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olume increase more rapidly than surface are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ell size doubles, 8x as much volume, but only 4x as much surface are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t would need 8x more nutrients and will have 8x more waste to remov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f E.coli were left unreglated, it could engulf the Earth in one day because it doubles in volume every 30 minutes!!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800" spc="-1" strike="noStrike">
                <a:solidFill>
                  <a:srgbClr val="000000"/>
                </a:solidFill>
                <a:latin typeface="Verdana"/>
              </a:rPr>
              <a:t>Surface Area to Volume Ratio Limits Size of Cell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o, if too big is a problem, what’s the solution? Cells divide before they become too big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rocess of cell division is called mitosi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800" spc="-1" strike="noStrike">
                <a:solidFill>
                  <a:srgbClr val="000000"/>
                </a:solidFill>
                <a:latin typeface="Verdana"/>
              </a:rPr>
              <a:t>Surface Area to Volume Ratio Limits Size of Cell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800" spc="-1" strike="noStrike">
                <a:solidFill>
                  <a:srgbClr val="000000"/>
                </a:solidFill>
                <a:latin typeface="Verdana"/>
              </a:rPr>
              <a:t>The Volume of Cell is Importan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Volume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 determines the amount metabolism in the cytoplas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Metabolism will require </a:t>
            </a: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import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 of precursor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Metabolism will result in the </a:t>
            </a: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export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 of secretion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And the </a:t>
            </a: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export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 of excretory produc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8T06:24:45Z</dcterms:created>
  <dc:creator>rick</dc:creator>
  <dc:description/>
  <dc:language>en-US</dc:language>
  <cp:lastModifiedBy>Shelley Hatch</cp:lastModifiedBy>
  <dcterms:modified xsi:type="dcterms:W3CDTF">2012-07-31T23:56:26Z</dcterms:modified>
  <cp:revision>10</cp:revision>
  <dc:subject/>
  <dc:title>Cell Size Limitations</dc:title>
</cp:coreProperties>
</file>